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6000-56D8-4DB0-AB0B-37A1F51558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the Seminole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lived in the southeast region, specifically in the state of Flori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arted out in northern Florida, but when the Americans attacked them, the Seminole tribe retreated further south, into the Everglad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e Seminole L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lived in the southeast region, specifically in the state of Flor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arted out in northern Florida, but when the Americans attacked them, the Seminole tribe retreated further south, into the Evergla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are the Seminole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people were once part of the creek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armed the southern regions of what is known today as Georgia and Ala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European settlers arrived, some of the creek people decided to stay behind, while others moved to northern and central Flori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people became known as the Seminole (which means “runaway” or “Wander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Seminol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people were once part of the creek t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armed the southern regions of what is known today as Georgia and Ala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uropean settlers arrived, some of the creek people decided to stay behind, while others moved to northern and central Flor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eople became known as the Seminole (which means “runaway” or “Wander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lanted corn, beans, squash and other vegetables and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ished and hunted, often catching alligators in the Florida sw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land the Seminole hunted deer , bear, raccoon, squirrel, and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thered roots and pota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family owned a vegetable gar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 was an important staple in the Seminole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often used to make a corn dish called hominy or it was ground into meal to make cornb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lanted corn, beans, squash and other vegetables and 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ished and hunted, often catching alligators in the Florida sw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land the Seminole hunted deer , bear, raccoon, squirrel, and 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thered roots and potat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amily owned a vegetable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 was an important staple in the Seminole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often used to make a corn dish called hominy or it was ground into meal to make corn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we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re colorful cotton clothing decorated with striped or plaid de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wore long-sleeved blouses and skirts that touched the fl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e necklaces made of glass b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mmon for Seminole women to wear several pounds of beaded necklaces that reached all the way to he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wore colorful shirts and plaid turbans on their h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eather was cold, men wore coats with ruffles called long shi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w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ore colorful cotton clothing decorated with striped or plaid de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men wore long-sleeved blouses and skirts that touched the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necklaces made of glass b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common for Seminole women to wear several pounds of beaded necklaces that reached all the way to her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wore colorful shirts and plaid turbans on their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weather was cold, men wore coats with ruffles called long sh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Chicke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living near the Everglades built open-sided wooden huts called chick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ickee was built on a platform raised about 3 feet off the swampy ground, and it had a thatched roof constructed of palmetto le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f kept out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slept in hammoc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spent most of their time outdo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Chicke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living near the Everglades built open-sided wooden huts called chick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ickee was built on a platform raised about 3 feet off the swampy ground, and it had a thatched roof constructed of palmetto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f kept out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slept in hammoc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spent most of their time outdo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c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the Seminoles trave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de flat dugout canoes from hollowed-out cypress lo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eered the boats with poles rather than pad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the Seminoles tra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de flat dugout canoes from hollowed-out cypress 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eered the boats with poles rather than pa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Seminole villages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 made up of many famil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milies in the villages were related  through their m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women and children belonged to the same clan (vocabulary wor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women worked near camp, taking care of the children, cooking, sewing, and gard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men hunted, fishing, and fa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early summer, the Seminole prepared for an important festival- the green corn 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villages came together to celebrate the festival by dancing, playing games, and fea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ming ceremony was held that year at the green corn dance festi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Seminole villages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made up of man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in the villages were related  through their m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women and children belonged to the same clan (vocabulary wo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women worked near camp, taking care of the children, cooking, sewing, and gard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men hunted, fishing, and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arly summer, the Seminole prepared for an important festival- the green corn 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villages came together to celebrate the festival by dancing, playing games, and fea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ing ceremony was held that year at the green corn dance fest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9210-FCDC-486B-A114-C5870D54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BD48-5F16-4E29-8D07-DE9E28D1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845F-BC73-4579-936D-9F17EA57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AF6D-2E05-4905-8E18-58A41712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13AB-79CF-4D32-8FF8-ABDFA7B7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E6BA-4CCA-469B-ABA5-8ADED22F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81CD-EC01-43DD-B24C-9BE4176B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A310-16C3-4842-AB6F-C26D1402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C042-AA16-4586-91D2-885DE9F7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9F88-4BB1-46DB-9172-661C5D20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358F-F03B-462F-A119-D7FB392C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BC3C-2714-4563-B385-DD7AE408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16A5-CE16-4D6C-A32B-221F0C0DA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Seminole Indi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seminole-indians-2"/>
          <p:cNvPicPr/>
          <p:nvPr/>
        </p:nvPicPr>
        <p:blipFill>
          <a:blip r:embed="rId1"/>
          <a:stretch/>
        </p:blipFill>
        <p:spPr>
          <a:xfrm>
            <a:off x="3124080" y="1828800"/>
            <a:ext cx="3022560" cy="4686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Where do the Seminole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 Seminole lived in the southeast region, specifically in the state of Flor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started out in northern Florida, but when the Americans attacked them, the Seminole tribe retreated further south, into the Everglades.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Who are the Semino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people were once part of the creek t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y farmed the southern regions of what is known today as Georgia and Alab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When European settlers arrived, some of the creek people decided to stay behind, while others moved to northern and central 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se people became known as the Seminole (which means “runaway” or “Wander”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What did they e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planted corn, beans, squash and other vegetables and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fished and hunted, often catching alligators in the Florida sw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On land the Seminole hunted deer , bear, raccoon, squirrel, and bi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 gathered roots and pota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Each family owned a vegetable ga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orn was an important staple in the Seminole d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t was often used to make a corn dish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ominy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or it was ground into meal to make corn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What did they we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wore colorful cotton clothing decorated with striped or plaid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 women wore long-sleeved blouses and skirts that touched th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ore necklaces made of glass b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t was common for Seminole women to wear several pounds of beaded necklaces that reached all the way to her 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en wore colorful shirts and plaid turbans on their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hen the weather was cold, men wore coats with ruffles called long shi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Chicke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living near the Everglades built open-sided wooden huts called chick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 chickee was built on a platform raised about 3 feet off the swampy ground, and it had a thatched roof constructed of palmetto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roof kept out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slept in hammoc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spent most of their time outdo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Chick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miccos08"/>
          <p:cNvPicPr/>
          <p:nvPr/>
        </p:nvPicPr>
        <p:blipFill>
          <a:blip r:embed="rId1"/>
          <a:stretch/>
        </p:blipFill>
        <p:spPr>
          <a:xfrm>
            <a:off x="990720" y="1295280"/>
            <a:ext cx="7810560" cy="42958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How did the Seminoles trav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made flat dugout canoes from hollowed-out cypress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steered the boats with poles rather than pad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What were the Seminole villages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Was made up of many fami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Families in the villages were related  through their m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All women and children belonged to the same clan (vocabulary w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women worked near camp, taking care of the children, cooking, sewing, and gard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men hunted, fishing, and fa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In the early summer, the Seminole prepared for an important festival- </a:t>
            </a: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the green corn 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villages came together to celebrate the festival by dancing, playing games, and fe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The naming ceremony was held that year at the green corn dance fest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3:05:39Z</dcterms:created>
  <dc:creator>Minter, Erin</dc:creator>
  <dc:description/>
  <dc:language>en-US</dc:language>
  <cp:lastModifiedBy>Legion</cp:lastModifiedBy>
  <dcterms:modified xsi:type="dcterms:W3CDTF">2017-07-05T12:49:08Z</dcterms:modified>
  <cp:revision>11</cp:revision>
  <dc:subject/>
  <dc:title>Seminole Indians</dc:title>
</cp:coreProperties>
</file>